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198-446E-473B-B130-DF774CFA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247-8D9C-4DC5-8D0B-DB48C247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BD2-3070-43A6-B741-81998105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A20-9683-4B41-ADFC-1429CA1D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72F9-DD18-4EA9-9469-4F4CA346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0088-E5A0-4F4C-86CE-6025C6A0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C245-0195-48E5-8F59-0033555C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30DF-827D-4104-95A5-0EAB3F2C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A6E4-2B3E-4D17-BC3D-5E66ED17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3A52-74BF-4732-8798-2A7DE048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564A-41D1-4C01-90CD-8CF1E78F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EA3-49B4-4CC2-A24E-002ED85A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9355-1EDA-400A-B3A6-F5AF25E1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5FB0-5D90-4BC8-997C-A3694A82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CE5E-6C17-460F-9B15-33EB89F4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0463-43BD-4F9E-A5BC-20CC9D41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DF4D-BE48-4C02-BD09-FEB346B8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5C36-9C89-4E1D-A913-7FBBD312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130-5B8D-4FE3-9140-58705E06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6C9-E46F-4877-BDEF-5449B41F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FC4F-34B1-44B1-814F-EA010A20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93B4-EAFC-4B57-9735-358B052C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2090-1668-423A-B09A-8078DF93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3479-F99D-4423-AFB9-76D64455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AC08C-6F09-4E33-B509-6219E03E8DD4}" type="slidenum">
              <a:rPr b="0" lang="en-GB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04720" y="6415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947000" y="3073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AC037-F9BC-453D-BAB9-8172E574C0DE}" type="slidenum">
              <a:rPr b="0" lang="en-GB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‘</a:t>
            </a: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ALL ABOUT ME’</a:t>
            </a:r>
            <a:br>
              <a:rPr sz="4300"/>
            </a:b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CREATING A MULTIMEDIA PRESENTATION</a:t>
            </a:r>
            <a:endParaRPr b="1" lang="en-US" sz="43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680" y="2428920"/>
            <a:ext cx="757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Learning Intent – To be able to explain what the terms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purpos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audienc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mean when planning a multi-media presentation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To plan the content of your multi-media presentation, making sure it is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suitabl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for th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Rockwell"/>
              </a:rPr>
              <a:t>purpos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Rockwell"/>
              </a:rPr>
              <a:t>audience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640" y="182736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All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Create a word-processed list of points about themselve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Most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Will create a more detailed document with information about themselves yourself, such as your hobbies, likes, dislikes including images taken from the Interne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Some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Will use formatting techniques to improve the layout of the document and will also begin to plan/design out their work out as a storyboard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4287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‘</a:t>
            </a: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All About Me’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Creating a Multimedia Present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Bookman Old Style"/>
              </a:rPr>
              <a:t>Success Criteria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2:18:01Z</dcterms:created>
  <dc:creator>peter</dc:creator>
  <dc:description/>
  <dc:language>en-US</dc:language>
  <cp:lastModifiedBy>BRYAN, C (SHS Teacher)</cp:lastModifiedBy>
  <dcterms:modified xsi:type="dcterms:W3CDTF">2020-09-30T15:42:36Z</dcterms:modified>
  <cp:revision>34</cp:revision>
  <dc:subject/>
  <dc:title>All About Me Creating a Multimedia Presentation</dc:title>
</cp:coreProperties>
</file>